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CF39-1D34-43C0-9861-DAD0E423B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E272-C1B5-486B-8D6F-3235B392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C80B-B93A-4A83-8C6A-C4FCD35AD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9CD8-705E-410B-883F-E2769418D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E758-B6A4-4798-B0EA-6D6158242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DF4C8-A9E0-4832-958C-CF3FBF31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E902-E347-4EC3-AF27-E0AB7C0D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C96F-6C5C-4B3A-A206-6F877CE2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A337-350D-4022-92E1-2A3A88BD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12F1-A407-495A-A7CD-14C9D9A9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169C-766E-4124-912D-705A5A25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0769-4A22-4B60-A0BD-10858329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B82A-FB1D-402B-BB77-A1748CFC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619B-016B-4D8E-887E-C85F8EFF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4D95-6925-4CB3-A353-895583D7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5C80-F723-4DC7-B5C3-79EC461EC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5BE0-43D6-4DB5-B079-C2C25F1C8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5A7A6-DC34-4FE8-8F00-7D5473E7A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3B63E-7680-4D37-B64A-F56D337F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037DC-C77F-4EC5-A73D-C12824DB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80B7F-65E8-466F-ADAC-8B4A513C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19C5A-623E-4917-A399-02FCFF70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1E17-5409-4166-901C-CB231A1D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FC076-C8CC-40DC-B0CC-9FBC5C1F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96593-A474-4C35-9D3B-B13EEAAE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168D4-2630-4225-B7A2-36362ABE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1EF1C-2F28-4F6A-BB08-B07AF12A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68C94-641E-4BD6-90E9-E3F237C6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5650F-12CD-46B1-9C3B-46BDA6253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53D2F-FF7B-41A2-882A-8061DC8C6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3904F-569A-4032-9BD1-3EC1072E8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5FBEC-A276-48B0-8712-5C772625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D6ACE-E7F9-4453-9D76-1FA0036A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C536-7FFF-4EB3-931A-A39405C5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3CB1B-1565-4ED0-A79D-3B65FCBF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A702F-6515-46A1-A738-ECD6C917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59EA2-6243-4F4A-9BC6-C54905AE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F4B80-A002-48B8-84B0-7516EEC9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5C49C-29AC-49B7-B9FE-37043D03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48863-1913-47B9-984C-DC5F42D0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3BF49-99F7-4FCD-9167-6987479F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85CFD-4FEC-435B-B0F3-78222C9B4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7F155-F6A3-4C3A-83C9-B5A259FEE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56F62-C45C-4BDE-B67E-BE5297A37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FEAB-987E-4DAF-9EDD-50957DDE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D2ED7-732B-41E9-AF8F-A4FC0A1A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44367-5D54-4F4B-AB3C-91D32587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E05FE-176C-4BEF-BC3D-F8F2D130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4A0DB-C6A5-4B01-978D-E4974486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A3547-99F7-40B9-8FFB-D6ECBE54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CB794-2E40-4A91-A745-79ED3FF5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D96BD-4D00-4522-B52F-D2ADA105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30F1E-8C0E-43CD-BC4E-FEE13C90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49B6B-9E5E-4819-902E-83F20C58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7EA37-428C-4B1A-8FC7-813B85894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56CB-BEE4-44B1-AC67-69527B70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DF2E2-7AFD-4238-B69C-7F0139D60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148AE-22F6-4180-A123-76980109D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7D725-8944-43CA-937F-5A7C5E44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F598A-E43F-4F4E-AAE7-327A459C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20CBF-95D3-4AF0-B082-A2CAD251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55FA5-4F25-47F5-A659-2AC6764D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2B02A-A688-4C94-8F7C-6B335EA0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8D097-323B-4876-9A16-FC1CE2B0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4A7A8-4AB1-40BC-92F6-D3769EFE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4DA18-AB1B-49E4-8C0D-A0A09689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DB84-106C-4E45-8139-30D53149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780EC-EA77-4185-ABF7-54A68607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8AECB-02F0-4F89-A826-0E1A08E5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B2B1F-1858-4061-90F3-600425D98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CCCDC-17D6-4CF6-9BE6-CC2E118D5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E5456-4249-43F7-9F4A-4E75FB0B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B0561-656A-4F8D-9140-39F90BEF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E8CA1-EC42-4A44-B43F-05931584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59999-16ED-4C16-9FBB-43DE178B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43D05-F5D1-4685-AD8E-7AE228F7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4F568-8436-455B-BD3E-303445AC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2415-ACAC-47A2-91BD-B842EBD9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78D3E-1E2B-4221-B2B3-585A6E44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B81B2-A367-4D4F-98BB-6BAAEDEF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C0D02-0B9B-4CE8-B248-C0A240BC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42E5C-E634-4D98-A2BF-CC892AD8A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A6FBA-FB98-4DDD-93CF-1ADB6B9E7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0E37-8BA4-49B9-AD19-C58BC7E1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2B7D-C610-4616-962D-5CBE8A27B6BE}" type="slidenum">
              <a:rPr b="0" lang="en-A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335D-17E9-4934-B80A-19BEB0715700}" type="slidenum">
              <a:rPr b="0" lang="en-A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FFFF-3B1E-4818-88B6-8F8B87D40E1D}" type="slidenum">
              <a:rPr b="0" lang="en-A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536E-EEB7-4CAC-95E4-B78EB1B093E1}" type="slidenum">
              <a:rPr b="0" lang="en-A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1DD9-1BB2-428E-8F1A-C033D92926F3}" type="slidenum">
              <a:rPr b="0" lang="en-A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9B8E-8601-419D-BE49-67E9C66F571F}" type="slidenum">
              <a:rPr b="0" lang="en-A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DD1F-3320-4249-9726-DF442557AEC2}" type="slidenum">
              <a:rPr b="0" lang="en-A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" Target="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c/Roger_Federer_%2826_June_2009%2C_Wimbledon%29_2_new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" Target=""/><Relationship Id="rId5" Type="http://schemas.openxmlformats.org/officeDocument/2006/relationships/slide" Target="slide6.xml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multiplication.com/flashgames/ConeCrazyLevels.htm" TargetMode="External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3" descr=""/>
          <p:cNvPicPr/>
          <p:nvPr/>
        </p:nvPicPr>
        <p:blipFill>
          <a:blip r:embed="rId1"/>
          <a:stretch/>
        </p:blipFill>
        <p:spPr>
          <a:xfrm>
            <a:off x="1170000" y="944640"/>
            <a:ext cx="7023240" cy="2878200"/>
          </a:xfrm>
          <a:prstGeom prst="rect">
            <a:avLst/>
          </a:prstGeom>
          <a:ln w="0">
            <a:noFill/>
          </a:ln>
        </p:spPr>
      </p:pic>
      <p:sp>
        <p:nvSpPr>
          <p:cNvPr id="302" name="TextBox 6"/>
          <p:cNvSpPr/>
          <p:nvPr/>
        </p:nvSpPr>
        <p:spPr>
          <a:xfrm>
            <a:off x="714240" y="4643280"/>
            <a:ext cx="228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88ba"/>
                </a:solidFill>
                <a:latin typeface="Century Gothic"/>
              </a:rPr>
              <a:t>By: Erin McClu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88ba"/>
                </a:solidFill>
                <a:latin typeface="Century Gothic"/>
              </a:rPr>
              <a:t>Grade: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Picture 2" descr="d:\Users\Erinm.STAWELL-PS.000\Desktop\Untitled 35.jpg"/>
          <p:cNvPicPr/>
          <p:nvPr/>
        </p:nvPicPr>
        <p:blipFill>
          <a:blip r:embed="rId2"/>
          <a:srcRect l="25784" t="6252" r="0" b="0"/>
          <a:stretch/>
        </p:blipFill>
        <p:spPr>
          <a:xfrm>
            <a:off x="3429000" y="4214880"/>
            <a:ext cx="2262240" cy="2143080"/>
          </a:xfrm>
          <a:prstGeom prst="rect">
            <a:avLst/>
          </a:prstGeom>
          <a:ln w="0">
            <a:noFill/>
          </a:ln>
        </p:spPr>
      </p:pic>
      <p:sp>
        <p:nvSpPr>
          <p:cNvPr id="304" name="TextBox 4"/>
          <p:cNvSpPr/>
          <p:nvPr/>
        </p:nvSpPr>
        <p:spPr>
          <a:xfrm>
            <a:off x="7286760" y="285840"/>
            <a:ext cx="18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ff388c"/>
                </a:solidFill>
                <a:uFillTx/>
                <a:latin typeface="Arial"/>
                <a:hlinkClick r:id="rId3" action="ppaction://hlinksldjump"/>
              </a:rPr>
              <a:t>Next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To Contents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450720" y="182520"/>
            <a:ext cx="8242560" cy="14875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ab0043"/>
                </a:solidFill>
                <a:latin typeface="Century Gothic"/>
              </a:rPr>
              <a:t>Main characters: </a:t>
            </a:r>
            <a:r>
              <a:rPr b="0" lang="en-AU" sz="2400" spc="-1" strike="noStrike">
                <a:solidFill>
                  <a:srgbClr val="ffffff"/>
                </a:solidFill>
                <a:latin typeface="Century Gothic"/>
              </a:rPr>
              <a:t>Robbit, Andy, Jonathan &amp; The two Beetle boy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ab0043"/>
                </a:solidFill>
                <a:latin typeface="Century Gothic"/>
              </a:rPr>
              <a:t>Magic: </a:t>
            </a:r>
            <a:r>
              <a:rPr b="0" lang="en-AU" sz="2400" spc="-1" strike="noStrike">
                <a:solidFill>
                  <a:srgbClr val="ffffff"/>
                </a:solidFill>
                <a:latin typeface="Century Gothic"/>
              </a:rPr>
              <a:t>Non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ab0043"/>
                </a:solidFill>
                <a:latin typeface="Century Gothic"/>
              </a:rPr>
              <a:t>Setting: </a:t>
            </a:r>
            <a:r>
              <a:rPr b="0" lang="en-AU" sz="2400" spc="-1" strike="noStrike">
                <a:solidFill>
                  <a:srgbClr val="ffffff"/>
                </a:solidFill>
                <a:latin typeface="Century Gothic"/>
              </a:rPr>
              <a:t>Next to the old oak tre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ab0043"/>
                </a:solidFill>
                <a:latin typeface="Century Gothic"/>
              </a:rPr>
              <a:t>Good deed: </a:t>
            </a:r>
            <a:r>
              <a:rPr b="0" lang="en-AU" sz="2400" spc="-1" strike="noStrike">
                <a:solidFill>
                  <a:srgbClr val="ffffff"/>
                </a:solidFill>
                <a:latin typeface="Century Gothic"/>
              </a:rPr>
              <a:t>Helping Jonathan out of the wel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ab0043"/>
                </a:solidFill>
                <a:latin typeface="Century Gothic"/>
              </a:rPr>
              <a:t>Bad deed: </a:t>
            </a:r>
            <a:r>
              <a:rPr b="0" lang="en-AU" sz="2400" spc="-1" strike="noStrike">
                <a:solidFill>
                  <a:srgbClr val="ffffff"/>
                </a:solidFill>
                <a:latin typeface="Century Gothic"/>
              </a:rPr>
              <a:t>Non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ab0043"/>
                </a:solidFill>
                <a:latin typeface="Century Gothic"/>
              </a:rPr>
              <a:t>Conflicts: </a:t>
            </a:r>
            <a:r>
              <a:rPr b="0" lang="en-AU" sz="2400" spc="-1" strike="noStrike">
                <a:solidFill>
                  <a:srgbClr val="ffffff"/>
                </a:solidFill>
                <a:latin typeface="Century Gothic"/>
              </a:rPr>
              <a:t>Non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TextBox 3"/>
          <p:cNvSpPr/>
          <p:nvPr/>
        </p:nvSpPr>
        <p:spPr>
          <a:xfrm>
            <a:off x="7286760" y="5143680"/>
            <a:ext cx="18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ff388c"/>
                </a:solidFill>
                <a:uFillTx/>
                <a:latin typeface="Arial"/>
                <a:hlinkClick r:id="rId2" action="ppaction://hlinksldjump"/>
              </a:rPr>
              <a:t>Next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To Contents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Century Gothic"/>
              </a:rPr>
              <a:t>Founder: Harry Cunningha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Century Gothic"/>
              </a:rPr>
              <a:t>When: 1969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Century Gothic"/>
              </a:rPr>
              <a:t>Average money: 2.5 billion dollars per yea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Century Gothic"/>
              </a:rPr>
              <a:t>Owner: Sears Holdings Corpora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Century Gothic"/>
              </a:rPr>
              <a:t>Originated: Detroit, Michiga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9" name="Rectangle 3" descr=""/>
          <p:cNvPicPr/>
          <p:nvPr/>
        </p:nvPicPr>
        <p:blipFill>
          <a:blip r:embed="rId1"/>
          <a:stretch/>
        </p:blipFill>
        <p:spPr>
          <a:xfrm>
            <a:off x="291960" y="85680"/>
            <a:ext cx="4627800" cy="16574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9" descr="http://upload.wikimedia.org/wikipedia/en/4/4a/Kmart.png"/>
          <p:cNvPicPr/>
          <p:nvPr/>
        </p:nvPicPr>
        <p:blipFill>
          <a:blip r:embed="rId2"/>
          <a:stretch/>
        </p:blipFill>
        <p:spPr>
          <a:xfrm>
            <a:off x="4429080" y="357120"/>
            <a:ext cx="4275360" cy="13575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4"/>
          <p:cNvSpPr/>
          <p:nvPr/>
        </p:nvSpPr>
        <p:spPr>
          <a:xfrm>
            <a:off x="6929280" y="5429160"/>
            <a:ext cx="30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ff388c"/>
                </a:solidFill>
                <a:uFillTx/>
                <a:latin typeface="Arial"/>
                <a:hlinkClick r:id="rId3" action="ppaction://hlinksldjump"/>
              </a:rPr>
              <a:t>Next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ff388c"/>
                </a:solidFill>
                <a:uFillTx/>
                <a:latin typeface="Arial"/>
                <a:hlinkClick r:id="rId4" action="ppaction://hlinksldjump"/>
              </a:rPr>
              <a:t>To Contents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5" descr="File:Roger Federer (26 June 2009, Wimbledon) 2 new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86760" y="3213000"/>
            <a:ext cx="1857240" cy="3645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500040" y="1500120"/>
            <a:ext cx="822960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Century Gothic"/>
              </a:rPr>
              <a:t>Roger Federer is famous for his great skills in playing tennis. He had a few nicknam</a:t>
            </a:r>
            <a:r>
              <a:rPr b="0" i="1" lang="en-AU" sz="3000" spc="-1" strike="noStrike">
                <a:solidFill>
                  <a:srgbClr val="ffffff"/>
                </a:solidFill>
                <a:latin typeface="Century Gothic"/>
              </a:rPr>
              <a:t>es Eg. </a:t>
            </a:r>
            <a:r>
              <a:rPr b="0" lang="en-AU" sz="3000" spc="-1" strike="noStrike">
                <a:solidFill>
                  <a:srgbClr val="ffffff"/>
                </a:solidFill>
                <a:latin typeface="Century Gothic"/>
              </a:rPr>
              <a:t>Swiss Maestro, </a:t>
            </a:r>
            <a:br>
              <a:rPr sz="3000"/>
            </a:br>
            <a:r>
              <a:rPr b="0" lang="en-AU" sz="3000" spc="-1" strike="noStrike">
                <a:solidFill>
                  <a:srgbClr val="ffffff"/>
                </a:solidFill>
                <a:latin typeface="Century Gothic"/>
              </a:rPr>
              <a:t>Federer Express &amp; Darth Federer. He was born in Basel, Switzerland and he was born on the 8</a:t>
            </a:r>
            <a:r>
              <a:rPr b="0" lang="en-AU" sz="3000" spc="-1" strike="noStrike" baseline="30000">
                <a:solidFill>
                  <a:srgbClr val="ffffff"/>
                </a:solidFill>
                <a:latin typeface="Century Gothic"/>
              </a:rPr>
              <a:t>th</a:t>
            </a:r>
            <a:r>
              <a:rPr b="0" lang="en-AU" sz="3000" spc="-1" strike="noStrike">
                <a:solidFill>
                  <a:srgbClr val="ffffff"/>
                </a:solidFill>
                <a:latin typeface="Century Gothic"/>
              </a:rPr>
              <a:t> August in1981 and he is 28 years old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Century Gothic"/>
              </a:rPr>
              <a:t>Did you know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Century Gothic"/>
              </a:rPr>
              <a:t>He is 1.85 metres tall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Century Gothic"/>
              </a:rPr>
              <a:t>He weighs 85kg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4" name="Rectangle 3" descr=""/>
          <p:cNvPicPr/>
          <p:nvPr/>
        </p:nvPicPr>
        <p:blipFill>
          <a:blip r:embed="rId3"/>
          <a:stretch/>
        </p:blipFill>
        <p:spPr>
          <a:xfrm>
            <a:off x="1785960" y="249120"/>
            <a:ext cx="5632560" cy="1146240"/>
          </a:xfrm>
          <a:prstGeom prst="rect">
            <a:avLst/>
          </a:prstGeom>
          <a:ln w="0">
            <a:noFill/>
          </a:ln>
        </p:spPr>
      </p:pic>
      <p:sp>
        <p:nvSpPr>
          <p:cNvPr id="315" name="TextBox 4"/>
          <p:cNvSpPr/>
          <p:nvPr/>
        </p:nvSpPr>
        <p:spPr>
          <a:xfrm>
            <a:off x="5143680" y="5934240"/>
            <a:ext cx="300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ff388c"/>
                </a:solidFill>
                <a:uFillTx/>
                <a:latin typeface="Arial"/>
                <a:hlinkClick r:id="rId4" action="ppaction://hlinksldjump"/>
              </a:rPr>
              <a:t>Next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ff388c"/>
                </a:solidFill>
                <a:uFillTx/>
                <a:latin typeface="Arial"/>
                <a:hlinkClick r:id="rId5" action="ppaction://hlinksldjump"/>
              </a:rPr>
              <a:t>To Contents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420840" y="-36360"/>
            <a:ext cx="8242200" cy="14443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882440"/>
            <a:ext cx="82296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en-AU" sz="2000" spc="-1" strike="noStrike">
                <a:solidFill>
                  <a:srgbClr val="ffffff"/>
                </a:solidFill>
                <a:latin typeface="Century Gothic"/>
              </a:rPr>
              <a:t>Crazy cones is a game for most age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en-AU" sz="2000" spc="-1" strike="noStrike">
                <a:solidFill>
                  <a:srgbClr val="ffffff"/>
                </a:solidFill>
                <a:latin typeface="Century Gothic"/>
              </a:rPr>
              <a:t>The aim of the game is to get as many questions right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en-AU" sz="2000" spc="-1" strike="noStrike">
                <a:solidFill>
                  <a:srgbClr val="ffffff"/>
                </a:solidFill>
                <a:latin typeface="Century Gothic"/>
              </a:rPr>
              <a:t>If you get a question wrong you get a second chance but if its wrong the second time the customer will leave if you lose to many customers you get the sack this means you LOSE.  I would recommend this game for children who are between 7 and 13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entury Gothic"/>
              </a:rPr>
              <a:t>Click on the website below to go to CRAZY CONE!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" name="TextBox 3"/>
          <p:cNvSpPr/>
          <p:nvPr/>
        </p:nvSpPr>
        <p:spPr>
          <a:xfrm>
            <a:off x="2643120" y="1071720"/>
            <a:ext cx="385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388c"/>
                </a:solidFill>
                <a:latin typeface="Arial"/>
              </a:rPr>
              <a:t>Crazy Co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785880" y="5786280"/>
            <a:ext cx="75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ff388c"/>
                </a:solidFill>
                <a:uFillTx/>
                <a:latin typeface="Arial"/>
                <a:hlinkClick r:id="rId2"/>
              </a:rPr>
              <a:t>http://www.multiplication.com/flashgames/ConeCrazyLevels.htm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Box 11"/>
          <p:cNvSpPr/>
          <p:nvPr/>
        </p:nvSpPr>
        <p:spPr>
          <a:xfrm>
            <a:off x="7572240" y="5286240"/>
            <a:ext cx="15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Next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To Contents Pag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6400" indent="-743040">
              <a:spcBef>
                <a:spcPts val="799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entury Gothic"/>
              </a:rPr>
              <a:t>Title Pag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806400" indent="-743040">
              <a:spcBef>
                <a:spcPts val="799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entury Gothic"/>
              </a:rPr>
              <a:t>Andy &amp; the beetles rescue Jonatho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806400" indent="-743040">
              <a:spcBef>
                <a:spcPts val="799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entury Gothic"/>
              </a:rPr>
              <a:t>Information on K-mar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806400" indent="-743040">
              <a:spcBef>
                <a:spcPts val="799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entury Gothic"/>
              </a:rPr>
              <a:t>Roger Federer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806400" indent="-743040">
              <a:spcBef>
                <a:spcPts val="799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entury Gothic"/>
              </a:rPr>
              <a:t>Times Tables game (Crazy Cones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806400" indent="-743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806400" indent="-743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e40059"/>
                </a:solidFill>
                <a:latin typeface="Century Gothic"/>
              </a:rPr>
              <a:t>End Slide Show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22:53:38Z</dcterms:created>
  <dc:creator>Education</dc:creator>
  <dc:description/>
  <dc:language>en-US</dc:language>
  <cp:lastModifiedBy>Education</cp:lastModifiedBy>
  <dcterms:modified xsi:type="dcterms:W3CDTF">2009-12-07T01:51:05Z</dcterms:modified>
  <cp:revision>29</cp:revision>
  <dc:subject/>
  <dc:title>Slide 1</dc:title>
</cp:coreProperties>
</file>